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092-9D0A-4A36-BEB6-7C6874FB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DC9-7C8C-4554-9DC4-D3FD87CF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926-1FD8-4508-9D9C-ACD64103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466-B6EC-45D9-8FDB-A913946B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687-8972-469B-B190-923BBE4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C07-59F9-4457-BE62-46E691E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877-6ED5-4E77-85DE-E380D3CA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642-7469-4268-BAA6-6A9EBAFA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484-FD13-4069-9B32-56D06DB0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2AE-3240-48E2-A150-5BA554A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572-AA7D-48CD-B53F-ADC086C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F15-1E91-4E60-BB7E-5797FA9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80F7-1A36-457F-86BF-59C7B2F26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4600" y="685800"/>
            <a:ext cx="1915920" cy="703800"/>
            <a:chOff x="2514600" y="685800"/>
            <a:chExt cx="1915920" cy="703800"/>
          </a:xfrm>
        </p:grpSpPr>
        <p:sp>
          <p:nvSpPr>
            <p:cNvPr id="43" name=""/>
            <p:cNvSpPr/>
            <p:nvPr/>
          </p:nvSpPr>
          <p:spPr>
            <a:xfrm>
              <a:off x="2514600" y="68580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+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78160" y="762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30760" y="68580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55960" y="722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600" y="1371600"/>
            <a:ext cx="633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en x = -1 und x = -4 müssen wir ausschließ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-1 ; - 4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560" y="2438280"/>
            <a:ext cx="627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kommen 2 Nenner vor, die keine gemeinsamen Faktoren ha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de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uptnenner (1+x)(x+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8600" y="72388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3960" y="5029200"/>
            <a:ext cx="4334400" cy="703800"/>
            <a:chOff x="-3960" y="5029200"/>
            <a:chExt cx="4334400" cy="703800"/>
          </a:xfrm>
        </p:grpSpPr>
        <p:sp>
          <p:nvSpPr>
            <p:cNvPr id="52" name=""/>
            <p:cNvSpPr/>
            <p:nvPr/>
          </p:nvSpPr>
          <p:spPr>
            <a:xfrm>
              <a:off x="3809880" y="51339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3960" y="5210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3960" y="5029200"/>
              <a:ext cx="157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1+x)(x+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+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01640" y="5105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76760" y="5029200"/>
              <a:ext cx="171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1+x)(x+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0400" y="50655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817560" y="4191120"/>
            <a:ext cx="4507560" cy="703800"/>
            <a:chOff x="817560" y="4191120"/>
            <a:chExt cx="4507560" cy="703800"/>
          </a:xfrm>
        </p:grpSpPr>
        <p:sp>
          <p:nvSpPr>
            <p:cNvPr id="59" name=""/>
            <p:cNvSpPr/>
            <p:nvPr/>
          </p:nvSpPr>
          <p:spPr>
            <a:xfrm>
              <a:off x="3809880" y="42958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6280" y="4419720"/>
              <a:ext cx="151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+x)(x+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7560" y="419112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+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8112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19112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58920" y="4227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4920" y="5105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41008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5105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541008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1680" y="5819760"/>
            <a:ext cx="4800960" cy="536040"/>
            <a:chOff x="301680" y="5819760"/>
            <a:chExt cx="4800960" cy="536040"/>
          </a:xfrm>
        </p:grpSpPr>
        <p:sp>
          <p:nvSpPr>
            <p:cNvPr id="70" name=""/>
            <p:cNvSpPr/>
            <p:nvPr/>
          </p:nvSpPr>
          <p:spPr>
            <a:xfrm>
              <a:off x="3809880" y="58197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7280" y="58960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x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1680" y="586728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x + 16    =   10 + 10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18600" y="6477120"/>
            <a:ext cx="3188880" cy="561960"/>
            <a:chOff x="1218600" y="6477120"/>
            <a:chExt cx="3188880" cy="561960"/>
          </a:xfrm>
        </p:grpSpPr>
        <p:sp>
          <p:nvSpPr>
            <p:cNvPr id="74" name=""/>
            <p:cNvSpPr/>
            <p:nvPr/>
          </p:nvSpPr>
          <p:spPr>
            <a:xfrm>
              <a:off x="3809880" y="65055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6920" y="65055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8600" y="6477120"/>
              <a:ext cx="12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  =  6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0" y="1371600"/>
            <a:ext cx="619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en x = 3 und x = 0 müssen wir ausschließ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0 ; 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0720" y="746748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18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16280" y="685800"/>
            <a:ext cx="2682000" cy="703800"/>
            <a:chOff x="1916280" y="685800"/>
            <a:chExt cx="2682000" cy="703800"/>
          </a:xfrm>
        </p:grpSpPr>
        <p:sp>
          <p:nvSpPr>
            <p:cNvPr id="82" name=""/>
            <p:cNvSpPr/>
            <p:nvPr/>
          </p:nvSpPr>
          <p:spPr>
            <a:xfrm>
              <a:off x="1916280" y="68580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23760" y="762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14480" y="762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5520" y="68580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48360" y="7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5560" y="2438280"/>
            <a:ext cx="627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kommen 2 Nenner vor, die keine gemeinsamen Faktoren ha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de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uptnenner x(x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6080" y="4143240"/>
            <a:ext cx="5201640" cy="751680"/>
            <a:chOff x="946080" y="4143240"/>
            <a:chExt cx="5201640" cy="751680"/>
          </a:xfrm>
        </p:grpSpPr>
        <p:sp>
          <p:nvSpPr>
            <p:cNvPr id="89" name=""/>
            <p:cNvSpPr/>
            <p:nvPr/>
          </p:nvSpPr>
          <p:spPr>
            <a:xfrm>
              <a:off x="5029200" y="4143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8480" y="4267080"/>
              <a:ext cx="111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46080" y="419112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3920" y="4267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324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8428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712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2440" y="4981680"/>
            <a:ext cx="5017320" cy="751320"/>
            <a:chOff x="532440" y="4981680"/>
            <a:chExt cx="5017320" cy="751320"/>
          </a:xfrm>
        </p:grpSpPr>
        <p:sp>
          <p:nvSpPr>
            <p:cNvPr id="97" name=""/>
            <p:cNvSpPr/>
            <p:nvPr/>
          </p:nvSpPr>
          <p:spPr>
            <a:xfrm>
              <a:off x="5029200" y="4981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3280" y="5057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2440" y="5029200"/>
              <a:ext cx="110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09360" y="5105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9560" y="5105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6320" y="5029200"/>
              <a:ext cx="110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4960" y="510552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838080" y="54097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14400" y="510516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51814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78960" y="5486040"/>
            <a:ext cx="5024160" cy="717120"/>
            <a:chOff x="678960" y="5486040"/>
            <a:chExt cx="5024160" cy="717120"/>
          </a:xfrm>
        </p:grpSpPr>
        <p:sp>
          <p:nvSpPr>
            <p:cNvPr id="108" name=""/>
            <p:cNvSpPr/>
            <p:nvPr/>
          </p:nvSpPr>
          <p:spPr>
            <a:xfrm>
              <a:off x="5029200" y="56674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6240" y="574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438280" y="54860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8960" y="571500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x     -    6x  + 18 =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667600" y="6353280"/>
            <a:ext cx="2959200" cy="533160"/>
            <a:chOff x="2667600" y="6353280"/>
            <a:chExt cx="2959200" cy="533160"/>
          </a:xfrm>
        </p:grpSpPr>
        <p:sp>
          <p:nvSpPr>
            <p:cNvPr id="113" name=""/>
            <p:cNvSpPr/>
            <p:nvPr/>
          </p:nvSpPr>
          <p:spPr>
            <a:xfrm>
              <a:off x="5029200" y="63532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6240" y="63532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7600" y="64008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 =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10:13:11Z</dcterms:modified>
  <cp:revision>5</cp:revision>
  <dc:subject/>
  <dc:title>PowerPoint-Präsentation</dc:title>
</cp:coreProperties>
</file>