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3953-8632-4EA1-A9CE-62148902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C01C-5CC1-4B7B-9FCE-3B8A45DF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1E8A-F9AF-4F3B-BCC9-976961A8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361E-B92E-471A-AA4A-44D46D66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013D-0752-494B-A507-1E68B2B6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AF5-F14F-42BC-8239-DA09FED7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5B82-76F3-4DA3-ACEC-D95AE8DB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257E-3232-424D-975E-693D8D8E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AB2A-9510-44B8-92AC-78E2DCE0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9CDC-3C9B-4B3C-92B1-B4DFF375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9606-54AC-4A9D-AAC6-FE17BECE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4A13-A65C-4434-87F4-94B8B888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E6C1-6CF5-4272-B223-FB7F2E6FC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47440" y="22860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ösungsbeispiel Bruchgleichung 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514600" y="685800"/>
            <a:ext cx="1915920" cy="703800"/>
            <a:chOff x="2514600" y="685800"/>
            <a:chExt cx="1915920" cy="703800"/>
          </a:xfrm>
        </p:grpSpPr>
        <p:sp>
          <p:nvSpPr>
            <p:cNvPr id="43" name=""/>
            <p:cNvSpPr/>
            <p:nvPr/>
          </p:nvSpPr>
          <p:spPr>
            <a:xfrm>
              <a:off x="2514600" y="685800"/>
              <a:ext cx="59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+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278160" y="7621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830760" y="685800"/>
              <a:ext cx="59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+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55960" y="7221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3600" y="1371600"/>
            <a:ext cx="633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estimmen der Definitionsmeng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Lösungen x = -1 und x = -4 müssen wir ausschließe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is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= Q \ {-1 ; - 4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5560" y="2438280"/>
            <a:ext cx="627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. Bestimmung des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auptnenne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 kommen 2 Nenner vor, die keine gemeinsamen Faktoren hab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ist der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auptnenner (1+x)(x+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1480" y="3654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ösungsschrit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8600" y="723888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= { 1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-3960" y="5029200"/>
            <a:ext cx="4334400" cy="703800"/>
            <a:chOff x="-3960" y="5029200"/>
            <a:chExt cx="4334400" cy="703800"/>
          </a:xfrm>
        </p:grpSpPr>
        <p:sp>
          <p:nvSpPr>
            <p:cNvPr id="52" name=""/>
            <p:cNvSpPr/>
            <p:nvPr/>
          </p:nvSpPr>
          <p:spPr>
            <a:xfrm>
              <a:off x="3809880" y="513396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63960" y="5210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-3960" y="5029200"/>
              <a:ext cx="1572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4 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(1+x)(x+4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+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01640" y="51055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76760" y="5029200"/>
              <a:ext cx="1713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10 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(1+x)(x+4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+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30400" y="50655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817560" y="4191120"/>
            <a:ext cx="4507560" cy="703800"/>
            <a:chOff x="817560" y="4191120"/>
            <a:chExt cx="4507560" cy="703800"/>
          </a:xfrm>
        </p:grpSpPr>
        <p:sp>
          <p:nvSpPr>
            <p:cNvPr id="59" name=""/>
            <p:cNvSpPr/>
            <p:nvPr/>
          </p:nvSpPr>
          <p:spPr>
            <a:xfrm>
              <a:off x="3809880" y="429588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06280" y="4419720"/>
              <a:ext cx="151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•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+x)(x+4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17560" y="4191120"/>
              <a:ext cx="59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+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81120" y="4267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33720" y="4191120"/>
              <a:ext cx="59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+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58920" y="42274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304920" y="510552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541008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510552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541008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01680" y="5819760"/>
            <a:ext cx="4800960" cy="536040"/>
            <a:chOff x="301680" y="5819760"/>
            <a:chExt cx="4800960" cy="536040"/>
          </a:xfrm>
        </p:grpSpPr>
        <p:sp>
          <p:nvSpPr>
            <p:cNvPr id="70" name=""/>
            <p:cNvSpPr/>
            <p:nvPr/>
          </p:nvSpPr>
          <p:spPr>
            <a:xfrm>
              <a:off x="3809880" y="581976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87280" y="589608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 4x -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1680" y="5867280"/>
              <a:ext cx="314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x + 16    =   10 + 10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218600" y="6477120"/>
            <a:ext cx="3188880" cy="561960"/>
            <a:chOff x="1218600" y="6477120"/>
            <a:chExt cx="3188880" cy="561960"/>
          </a:xfrm>
        </p:grpSpPr>
        <p:sp>
          <p:nvSpPr>
            <p:cNvPr id="74" name=""/>
            <p:cNvSpPr/>
            <p:nvPr/>
          </p:nvSpPr>
          <p:spPr>
            <a:xfrm>
              <a:off x="3809880" y="650556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86920" y="650556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18600" y="6477120"/>
              <a:ext cx="127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   =  6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47440" y="22860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ösungsbeispiel Bruchgleichung 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20" y="1371600"/>
            <a:ext cx="6198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estimmen der Definitionsmeng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Lösungen x = 3 und x = 0 müssen wir ausschließe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is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= Q \ {0 ; 3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1480" y="3654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ösungsschrit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0720" y="746748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= { 18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916280" y="685800"/>
            <a:ext cx="2682000" cy="703800"/>
            <a:chOff x="1916280" y="685800"/>
            <a:chExt cx="2682000" cy="703800"/>
          </a:xfrm>
        </p:grpSpPr>
        <p:sp>
          <p:nvSpPr>
            <p:cNvPr id="82" name=""/>
            <p:cNvSpPr/>
            <p:nvPr/>
          </p:nvSpPr>
          <p:spPr>
            <a:xfrm>
              <a:off x="1916280" y="685800"/>
              <a:ext cx="676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-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23760" y="7621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14480" y="7621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25520" y="68580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48360" y="7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85560" y="2438280"/>
            <a:ext cx="627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. Bestimmung des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auptnenne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 kommen 2 Nenner vor, die keine gemeinsamen Faktoren hab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ist der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auptnenner x(x-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46080" y="4143240"/>
            <a:ext cx="5201640" cy="751680"/>
            <a:chOff x="946080" y="4143240"/>
            <a:chExt cx="5201640" cy="751680"/>
          </a:xfrm>
        </p:grpSpPr>
        <p:sp>
          <p:nvSpPr>
            <p:cNvPr id="89" name=""/>
            <p:cNvSpPr/>
            <p:nvPr/>
          </p:nvSpPr>
          <p:spPr>
            <a:xfrm>
              <a:off x="5029200" y="414324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28480" y="4267080"/>
              <a:ext cx="111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•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x(x –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46080" y="4191120"/>
              <a:ext cx="676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-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53920" y="4267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3240" y="4267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84280" y="419112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07120" y="4267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32440" y="4981680"/>
            <a:ext cx="5017320" cy="751320"/>
            <a:chOff x="532440" y="4981680"/>
            <a:chExt cx="5017320" cy="751320"/>
          </a:xfrm>
        </p:grpSpPr>
        <p:sp>
          <p:nvSpPr>
            <p:cNvPr id="97" name=""/>
            <p:cNvSpPr/>
            <p:nvPr/>
          </p:nvSpPr>
          <p:spPr>
            <a:xfrm>
              <a:off x="5029200" y="498168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83280" y="50576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2440" y="5029200"/>
              <a:ext cx="1102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5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x(x –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-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09360" y="5105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49560" y="51055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56320" y="5029200"/>
              <a:ext cx="1102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6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x(x –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04960" y="5105520"/>
              <a:ext cx="121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•x(x –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V="1">
            <a:off x="838080" y="54097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914400" y="510516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51814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78960" y="5486040"/>
            <a:ext cx="5024160" cy="717120"/>
            <a:chOff x="678960" y="5486040"/>
            <a:chExt cx="5024160" cy="717120"/>
          </a:xfrm>
        </p:grpSpPr>
        <p:sp>
          <p:nvSpPr>
            <p:cNvPr id="108" name=""/>
            <p:cNvSpPr/>
            <p:nvPr/>
          </p:nvSpPr>
          <p:spPr>
            <a:xfrm>
              <a:off x="5029200" y="566748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06240" y="574344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2438280" y="5486040"/>
              <a:ext cx="30492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8960" y="5715000"/>
              <a:ext cx="31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x     -    6x  + 18 =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667600" y="6353280"/>
            <a:ext cx="2959200" cy="533160"/>
            <a:chOff x="2667600" y="6353280"/>
            <a:chExt cx="2959200" cy="533160"/>
          </a:xfrm>
        </p:grpSpPr>
        <p:sp>
          <p:nvSpPr>
            <p:cNvPr id="113" name=""/>
            <p:cNvSpPr/>
            <p:nvPr/>
          </p:nvSpPr>
          <p:spPr>
            <a:xfrm>
              <a:off x="5029200" y="635328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06240" y="635328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67600" y="6400800"/>
              <a:ext cx="102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8 =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08:45:30Z</dcterms:created>
  <dc:creator>Horst</dc:creator>
  <dc:description/>
  <dc:language>en-US</dc:language>
  <cp:lastModifiedBy>Horst</cp:lastModifiedBy>
  <dcterms:modified xsi:type="dcterms:W3CDTF">2003-01-08T10:13:11Z</dcterms:modified>
  <cp:revision>5</cp:revision>
  <dc:subject/>
  <dc:title>PowerPoint-Präsentation</dc:title>
</cp:coreProperties>
</file>