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7DF-2360-4F03-AA0C-3EA60383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152-75A4-43F1-8B04-10CE7C6A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041-21FB-4F7E-9989-2C0A38EE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770-BC35-4EF6-A566-8173BFE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EFA-EF76-44F4-AC35-351719C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511-0169-47B7-95F1-DE4BF78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0A3-79C1-48F5-AAE5-847B9F5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6EF-686D-47DC-82C9-A4455648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0A2-B048-40A8-BCF1-7E0D0A67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31A-B0BB-4CEC-AAEC-17806FA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1C7-6DB0-494A-B2C7-336A65D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E56-A7F1-4F5C-A034-5B4F5BD9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DF7-C6F6-4337-9655-5FA64359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800" y="1522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smenge bei Brucht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773280"/>
            <a:ext cx="847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Übel, eine Definitionsmenge festlegen zu müssen, hat seine Wurz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Division. Die Division durch Null ergibt leider keinen Sinn. In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e der Mathematik sagt man auch, die Division durch Null ist 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, wie folgende Beispiele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7600" y="2209680"/>
            <a:ext cx="2303280" cy="932400"/>
            <a:chOff x="687600" y="2209680"/>
            <a:chExt cx="2303280" cy="932400"/>
          </a:xfrm>
        </p:grpSpPr>
        <p:sp>
          <p:nvSpPr>
            <p:cNvPr id="44" name=""/>
            <p:cNvSpPr/>
            <p:nvPr/>
          </p:nvSpPr>
          <p:spPr>
            <a:xfrm>
              <a:off x="687600" y="243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19320" y="2590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43000" y="2666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77600" y="220968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8320" y="228600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7960" y="27432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63920" y="3276720"/>
            <a:ext cx="2331000" cy="932040"/>
            <a:chOff x="763920" y="3276720"/>
            <a:chExt cx="2331000" cy="932040"/>
          </a:xfrm>
        </p:grpSpPr>
        <p:sp>
          <p:nvSpPr>
            <p:cNvPr id="51" name=""/>
            <p:cNvSpPr/>
            <p:nvPr/>
          </p:nvSpPr>
          <p:spPr>
            <a:xfrm>
              <a:off x="76392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5280" y="3657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219320" y="3733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3560" y="327672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45000" y="342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3920" y="380988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63920" y="4343400"/>
            <a:ext cx="2303280" cy="932400"/>
            <a:chOff x="763920" y="4343400"/>
            <a:chExt cx="2303280" cy="932400"/>
          </a:xfrm>
        </p:grpSpPr>
        <p:sp>
          <p:nvSpPr>
            <p:cNvPr id="58" name=""/>
            <p:cNvSpPr/>
            <p:nvPr/>
          </p:nvSpPr>
          <p:spPr>
            <a:xfrm>
              <a:off x="7639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724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19320" y="4800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3560" y="434340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4640" y="44197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3920" y="48769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63920" y="5486400"/>
            <a:ext cx="2331000" cy="932400"/>
            <a:chOff x="763920" y="5486400"/>
            <a:chExt cx="2331000" cy="932400"/>
          </a:xfrm>
        </p:grpSpPr>
        <p:sp>
          <p:nvSpPr>
            <p:cNvPr id="65" name=""/>
            <p:cNvSpPr/>
            <p:nvPr/>
          </p:nvSpPr>
          <p:spPr>
            <a:xfrm>
              <a:off x="763920" y="571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5867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219320" y="5943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3560" y="548640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5000" y="563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3920" y="60199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93920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28954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6440" y="2438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0280" y="263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33760" y="2971800"/>
            <a:ext cx="1447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6800" y="29718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638680" y="24382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4382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2800" y="350532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rch 0 kann nicht dividiert werd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7200" y="15228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menge bei Brucht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2000" y="838080"/>
            <a:ext cx="833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Bruchtermen können Variable im Zähler und im Nenner vork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e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durch die Zahl Null keinen Sinn ergib, muss ma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hlen aus der Grundmenge ausschließen, die beim Einsetzen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n dem Nenner den Wert Null geben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3520" y="2325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800" y="285912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3680" y="2819520"/>
            <a:ext cx="7140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ationalen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ußer 0 einsetz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{ 0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1148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etzt bedeutet das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ie Definitionsmeng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nd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ationalen Zahlen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auß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r Menge mit der Zahl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20" y="838080"/>
                <a:ext cx="89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4920" y="3505320"/>
                <a:ext cx="1295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670040" y="83808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Rationalen Zahlen außer –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setzen, denn – 5 + 5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4920" y="2682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4200" y="1828800"/>
            <a:ext cx="534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= Q\ { - 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0880" y="2782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97920" y="3581280"/>
            <a:ext cx="66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Rationalen Zahlen außer 0 und 5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n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( 0 – 5 ) = 0 u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( 5 – 5 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4200" y="4572000"/>
            <a:ext cx="534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= Q\ { 0 ; 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8:07:26Z</dcterms:created>
  <dc:creator>Horst</dc:creator>
  <dc:description/>
  <dc:language>en-US</dc:language>
  <cp:lastModifiedBy>Horst</cp:lastModifiedBy>
  <dcterms:modified xsi:type="dcterms:W3CDTF">2003-01-08T12:31:12Z</dcterms:modified>
  <cp:revision>3</cp:revision>
  <dc:subject/>
  <dc:title>PowerPoint-Präsentation</dc:title>
</cp:coreProperties>
</file>