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A50-8BCA-42DB-911E-E2BA5AF8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2F47-CEDF-48A4-9C43-33AFF9E9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0CCA-D042-4221-AE34-5FBE95FA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B9A-2D12-4F8F-8B2F-9EC8F1B9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4E8-5A49-449D-9E76-5ED9AD08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8DD-C5F6-4919-BE2F-4BDE3241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373-85BB-496C-B55F-E4E070A5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5EC-2B9A-4DDC-BD05-A90E538C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939-2654-4F51-BF2A-E5227271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185-F053-4BC9-A1A9-5D7E2127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141-1EFF-4976-A4CE-73677FD3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F04-9EC7-47FC-B1E7-25EAD1F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54EA-352F-4280-B90D-AC28CAECA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63040" y="838080"/>
            <a:ext cx="1770840" cy="703800"/>
            <a:chOff x="2363040" y="838080"/>
            <a:chExt cx="1770840" cy="703800"/>
          </a:xfrm>
        </p:grpSpPr>
        <p:sp>
          <p:nvSpPr>
            <p:cNvPr id="43" name=""/>
            <p:cNvSpPr/>
            <p:nvPr/>
          </p:nvSpPr>
          <p:spPr>
            <a:xfrm>
              <a:off x="2363040" y="838080"/>
              <a:ext cx="45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46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56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1132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762120" y="1523880"/>
            <a:ext cx="519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 x = 0 müssen wir ausschließen also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Definitionsmeng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0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8160" y="2133720"/>
            <a:ext cx="422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x    =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•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      =  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      = 2 • 2 •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HN  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• 2 • 2 •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39160" y="4191120"/>
            <a:ext cx="3961800" cy="703800"/>
            <a:chOff x="839160" y="4191120"/>
            <a:chExt cx="3961800" cy="703800"/>
          </a:xfrm>
        </p:grpSpPr>
        <p:sp>
          <p:nvSpPr>
            <p:cNvPr id="52" name=""/>
            <p:cNvSpPr/>
            <p:nvPr/>
          </p:nvSpPr>
          <p:spPr>
            <a:xfrm>
              <a:off x="4191120" y="4267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92200" y="4390920"/>
              <a:ext cx="60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8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9160" y="4191120"/>
              <a:ext cx="45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936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252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832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7816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2840" y="5105520"/>
            <a:ext cx="3948480" cy="703800"/>
            <a:chOff x="762840" y="5105520"/>
            <a:chExt cx="3948480" cy="703800"/>
          </a:xfrm>
        </p:grpSpPr>
        <p:sp>
          <p:nvSpPr>
            <p:cNvPr id="60" name=""/>
            <p:cNvSpPr/>
            <p:nvPr/>
          </p:nvSpPr>
          <p:spPr>
            <a:xfrm>
              <a:off x="4191120" y="51814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4840" y="51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840" y="5105520"/>
              <a:ext cx="82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8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936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5840" y="5105520"/>
              <a:ext cx="82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8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83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124800" y="5105520"/>
              <a:ext cx="82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9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8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77880" y="5791320"/>
            <a:ext cx="4033440" cy="535680"/>
            <a:chOff x="677880" y="5791320"/>
            <a:chExt cx="4033440" cy="535680"/>
          </a:xfrm>
        </p:grpSpPr>
        <p:sp>
          <p:nvSpPr>
            <p:cNvPr id="68" name=""/>
            <p:cNvSpPr/>
            <p:nvPr/>
          </p:nvSpPr>
          <p:spPr>
            <a:xfrm>
              <a:off x="4191120" y="5791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44840" y="5867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7880" y="5867280"/>
              <a:ext cx="30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     +    24    =     9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978200" y="6477120"/>
            <a:ext cx="2810160" cy="533160"/>
            <a:chOff x="1978200" y="6477120"/>
            <a:chExt cx="2810160" cy="533160"/>
          </a:xfrm>
        </p:grpSpPr>
        <p:sp>
          <p:nvSpPr>
            <p:cNvPr id="72" name=""/>
            <p:cNvSpPr/>
            <p:nvPr/>
          </p:nvSpPr>
          <p:spPr>
            <a:xfrm>
              <a:off x="4191120" y="6477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800" y="6477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78200" y="647712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6    =     9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438640" y="701028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5280" y="76201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4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676520" y="838080"/>
            <a:ext cx="2874960" cy="703800"/>
            <a:chOff x="1676520" y="838080"/>
            <a:chExt cx="2874960" cy="703800"/>
          </a:xfrm>
        </p:grpSpPr>
        <p:sp>
          <p:nvSpPr>
            <p:cNvPr id="79" name=""/>
            <p:cNvSpPr/>
            <p:nvPr/>
          </p:nvSpPr>
          <p:spPr>
            <a:xfrm>
              <a:off x="1676520" y="838080"/>
              <a:ext cx="7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x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3972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19520" y="83808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838080"/>
              <a:ext cx="74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x+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762480" y="1523880"/>
            <a:ext cx="526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 x = -2 müssen wir ausschließen also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Definitionsmeng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 -2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640" y="2133720"/>
            <a:ext cx="6707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de-DE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x+4    = 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•    (x+2)   In diesem Fall erkennt man 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x+2      =          x+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Hauptnenner besser, wenn man 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x+8    = 2 • 2 (x+2)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nzelnen Nenner faktorisier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HN      =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• 2 • (x+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4110120"/>
            <a:ext cx="5793840" cy="708480"/>
            <a:chOff x="228600" y="4110120"/>
            <a:chExt cx="5793840" cy="708480"/>
          </a:xfrm>
        </p:grpSpPr>
        <p:sp>
          <p:nvSpPr>
            <p:cNvPr id="88" name=""/>
            <p:cNvSpPr/>
            <p:nvPr/>
          </p:nvSpPr>
          <p:spPr>
            <a:xfrm>
              <a:off x="4952880" y="41432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51800" y="426708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" y="411480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95280" y="426708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2480" y="4110120"/>
              <a:ext cx="600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5480" y="426708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9000" y="4114800"/>
              <a:ext cx="1066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6320" y="5029200"/>
            <a:ext cx="5397120" cy="708480"/>
            <a:chOff x="76320" y="5029200"/>
            <a:chExt cx="5397120" cy="708480"/>
          </a:xfrm>
        </p:grpSpPr>
        <p:sp>
          <p:nvSpPr>
            <p:cNvPr id="96" name=""/>
            <p:cNvSpPr/>
            <p:nvPr/>
          </p:nvSpPr>
          <p:spPr>
            <a:xfrm>
              <a:off x="4952880" y="50576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06960" y="5057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320" y="5029200"/>
              <a:ext cx="1295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518652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0200" y="5029200"/>
              <a:ext cx="15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518148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24080" y="503388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(x+2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533520" y="548604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85800" y="5181480"/>
            <a:ext cx="6094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362320" y="510516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057400" y="548604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886200" y="510516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657600" y="548604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0280" y="5791320"/>
            <a:ext cx="5293800" cy="575640"/>
            <a:chOff x="350280" y="5791320"/>
            <a:chExt cx="5293800" cy="575640"/>
          </a:xfrm>
        </p:grpSpPr>
        <p:sp>
          <p:nvSpPr>
            <p:cNvPr id="110" name=""/>
            <p:cNvSpPr/>
            <p:nvPr/>
          </p:nvSpPr>
          <p:spPr>
            <a:xfrm>
              <a:off x="4952880" y="5791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6600" y="58672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80" y="5907240"/>
              <a:ext cx="35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x        +       4        =  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436840" y="6477120"/>
            <a:ext cx="3113640" cy="533160"/>
            <a:chOff x="2436840" y="6477120"/>
            <a:chExt cx="3113640" cy="533160"/>
          </a:xfrm>
        </p:grpSpPr>
        <p:sp>
          <p:nvSpPr>
            <p:cNvPr id="114" name=""/>
            <p:cNvSpPr/>
            <p:nvPr/>
          </p:nvSpPr>
          <p:spPr>
            <a:xfrm>
              <a:off x="4952880" y="6477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920" y="6477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6477120"/>
              <a:ext cx="13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x   =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743560" y="7010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49960" y="76597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0,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8:45:30Z</dcterms:created>
  <dc:creator>Horst</dc:creator>
  <dc:description/>
  <dc:language>en-US</dc:language>
  <cp:lastModifiedBy>Horst</cp:lastModifiedBy>
  <dcterms:modified xsi:type="dcterms:W3CDTF">2003-01-08T10:53:56Z</dcterms:modified>
  <cp:revision>4</cp:revision>
  <dc:subject/>
  <dc:title>PowerPoint-Präsentation</dc:title>
</cp:coreProperties>
</file>