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F79-2B54-4372-AA40-AFD18245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96E-93BC-42E3-9A25-8D94E79D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2A6C-BEAD-4247-BDFA-1264FCE7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48D3-F6E7-4255-A1C6-76E35261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15D-F0E1-46E3-9542-FB9CDD6E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DC3-D385-482F-B0BB-031CB56D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6EA-1DFC-44DC-9255-83DF49F3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A38-18D5-46F2-AFDD-380D61DC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8BBB-F503-4873-A4F5-ABBD3BF6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DB8-FE09-4A16-9AE2-2619EA33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85FC-AC50-4382-A05C-BE41FCE1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22D-6AEF-40E9-ABB9-0D29D4BC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DDE1-735F-47B6-9A91-F6DEA5D34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7440" y="2286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516040" y="838080"/>
            <a:ext cx="1617840" cy="703800"/>
            <a:chOff x="2516040" y="838080"/>
            <a:chExt cx="1617840" cy="703800"/>
          </a:xfrm>
        </p:grpSpPr>
        <p:sp>
          <p:nvSpPr>
            <p:cNvPr id="43" name=""/>
            <p:cNvSpPr/>
            <p:nvPr/>
          </p:nvSpPr>
          <p:spPr>
            <a:xfrm>
              <a:off x="251604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46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56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30440" y="91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11320" y="838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55960" y="8748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51360" y="1600200"/>
            <a:ext cx="602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Die Grundmenge G sind alle Rationalen Zahlen Q also G = Q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Angabe der Definitionsmenge entfäll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9760" y="2362320"/>
            <a:ext cx="3306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de-DE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    = 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•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    =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2 •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HN = 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  <a:ea typeface="Arial"/>
              </a:rPr>
              <a:t>• 2 •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06360" y="4267080"/>
            <a:ext cx="6552000" cy="703800"/>
            <a:chOff x="306360" y="4267080"/>
            <a:chExt cx="6552000" cy="703800"/>
          </a:xfrm>
        </p:grpSpPr>
        <p:sp>
          <p:nvSpPr>
            <p:cNvPr id="53" name=""/>
            <p:cNvSpPr/>
            <p:nvPr/>
          </p:nvSpPr>
          <p:spPr>
            <a:xfrm>
              <a:off x="306360" y="4267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9520" y="4343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73040" y="4267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2520" y="4343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92360" y="4267080"/>
              <a:ext cx="322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00400" y="42670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1840" y="4343400"/>
              <a:ext cx="71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43000" y="4419720"/>
              <a:ext cx="301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ide Seiten mit dem HN multipliz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53360" y="5105520"/>
            <a:ext cx="5550480" cy="703800"/>
            <a:chOff x="153360" y="5105520"/>
            <a:chExt cx="5550480" cy="703800"/>
          </a:xfrm>
        </p:grpSpPr>
        <p:sp>
          <p:nvSpPr>
            <p:cNvPr id="62" name=""/>
            <p:cNvSpPr/>
            <p:nvPr/>
          </p:nvSpPr>
          <p:spPr>
            <a:xfrm>
              <a:off x="153360" y="5105520"/>
              <a:ext cx="680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95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20040" y="5105520"/>
              <a:ext cx="750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x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825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63400" y="5105520"/>
              <a:ext cx="76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5 </a:t>
              </a:r>
              <a:r>
                <a:rPr b="0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51814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00400" y="51055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54480" y="5181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8440" y="5257800"/>
              <a:ext cx="189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le Bruchterme kürz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3680" y="5791320"/>
            <a:ext cx="4996440" cy="575640"/>
            <a:chOff x="283680" y="5791320"/>
            <a:chExt cx="4996440" cy="575640"/>
          </a:xfrm>
        </p:grpSpPr>
        <p:sp>
          <p:nvSpPr>
            <p:cNvPr id="72" name=""/>
            <p:cNvSpPr/>
            <p:nvPr/>
          </p:nvSpPr>
          <p:spPr>
            <a:xfrm>
              <a:off x="283680" y="5907240"/>
              <a:ext cx="26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x   +   2x    =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00400" y="57913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54480" y="58672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08440" y="5943600"/>
              <a:ext cx="14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Zusammenfass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292400" y="6477120"/>
            <a:ext cx="4352040" cy="535680"/>
            <a:chOff x="1292400" y="6477120"/>
            <a:chExt cx="4352040" cy="535680"/>
          </a:xfrm>
        </p:grpSpPr>
        <p:sp>
          <p:nvSpPr>
            <p:cNvPr id="77" name=""/>
            <p:cNvSpPr/>
            <p:nvPr/>
          </p:nvSpPr>
          <p:spPr>
            <a:xfrm>
              <a:off x="1292400" y="6553080"/>
              <a:ext cx="178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x    =    1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0400" y="647712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77440" y="647712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11680" y="6553080"/>
              <a:ext cx="183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Äquivalenzumform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599480" y="7010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=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447200" y="7543800"/>
            <a:ext cx="4190400" cy="459720"/>
            <a:chOff x="1447200" y="7543800"/>
            <a:chExt cx="4190400" cy="459720"/>
          </a:xfrm>
        </p:grpSpPr>
        <p:sp>
          <p:nvSpPr>
            <p:cNvPr id="83" name=""/>
            <p:cNvSpPr/>
            <p:nvPr/>
          </p:nvSpPr>
          <p:spPr>
            <a:xfrm>
              <a:off x="1447200" y="7543800"/>
              <a:ext cx="12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 = { 2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8680" y="7620120"/>
              <a:ext cx="197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ösungsmenge ange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46720" y="2286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ösungsbeispiel Bruchgleichung 2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90920" y="914400"/>
                <a:ext cx="1218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59280" y="1752480"/>
            <a:ext cx="6028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Die Grundmenge G sind alle Rationalen Zahlen Q also G = Q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 Angabe der Definitionsmenge entfäll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2560" y="2362320"/>
            <a:ext cx="422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. Bestimmung des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auptnenn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   = 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   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    =     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HN 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• 3 •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1480" y="3654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ösungsschrit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83040" y="4114800"/>
            <a:ext cx="6289560" cy="825480"/>
            <a:chOff x="383040" y="4114800"/>
            <a:chExt cx="6289560" cy="825480"/>
          </a:xfrm>
        </p:grpSpPr>
        <p:sp>
          <p:nvSpPr>
            <p:cNvPr id="91" name=""/>
            <p:cNvSpPr/>
            <p:nvPr/>
          </p:nvSpPr>
          <p:spPr>
            <a:xfrm>
              <a:off x="383040" y="411480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97440" y="411480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92720" y="4114800"/>
              <a:ext cx="34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15840" y="4267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5160" y="4267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57240" y="4419720"/>
              <a:ext cx="3015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eide Seiten mit dem HN multiplizi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8120" y="42670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26240" y="434340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•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4080" y="5029200"/>
            <a:ext cx="6159600" cy="825480"/>
            <a:chOff x="154080" y="5029200"/>
            <a:chExt cx="6159600" cy="825480"/>
          </a:xfrm>
        </p:grpSpPr>
        <p:sp>
          <p:nvSpPr>
            <p:cNvPr id="100" name=""/>
            <p:cNvSpPr/>
            <p:nvPr/>
          </p:nvSpPr>
          <p:spPr>
            <a:xfrm>
              <a:off x="154080" y="5029200"/>
              <a:ext cx="86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y </a:t>
              </a: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97440" y="5029200"/>
              <a:ext cx="88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</a:t>
              </a: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•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6760" y="5029200"/>
              <a:ext cx="51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0000"/>
                  </a:solidFill>
                  <a:uFillTx/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915840" y="5105520"/>
              <a:ext cx="5397840" cy="609480"/>
              <a:chOff x="915840" y="5105520"/>
              <a:chExt cx="5397840" cy="609480"/>
            </a:xfrm>
          </p:grpSpPr>
          <p:sp>
            <p:nvSpPr>
              <p:cNvPr id="104" name=""/>
              <p:cNvSpPr/>
              <p:nvPr/>
            </p:nvSpPr>
            <p:spPr>
              <a:xfrm>
                <a:off x="915840" y="5181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135160" y="51814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48120" y="51055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418280" y="5257800"/>
                <a:ext cx="1895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lle Bruchterme kürz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62320" y="51451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915840" y="5867280"/>
            <a:ext cx="5262120" cy="609840"/>
            <a:chOff x="915840" y="5867280"/>
            <a:chExt cx="5262120" cy="609840"/>
          </a:xfrm>
        </p:grpSpPr>
        <p:sp>
          <p:nvSpPr>
            <p:cNvPr id="110" name=""/>
            <p:cNvSpPr/>
            <p:nvPr/>
          </p:nvSpPr>
          <p:spPr>
            <a:xfrm>
              <a:off x="915840" y="5943600"/>
              <a:ext cx="203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y – 12 =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58672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01840" y="594360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5200" y="6019920"/>
              <a:ext cx="183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Äquivalenzumform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1602000" y="6629400"/>
            <a:ext cx="4575960" cy="609480"/>
            <a:chOff x="1602000" y="6629400"/>
            <a:chExt cx="4575960" cy="609480"/>
          </a:xfrm>
        </p:grpSpPr>
        <p:sp>
          <p:nvSpPr>
            <p:cNvPr id="115" name=""/>
            <p:cNvSpPr/>
            <p:nvPr/>
          </p:nvSpPr>
          <p:spPr>
            <a:xfrm>
              <a:off x="1602000" y="670572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y = 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48120" y="66294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45200" y="6858000"/>
              <a:ext cx="183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Äquivalenzumform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5160" y="67057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905120" y="731520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2,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75440" y="7924680"/>
            <a:ext cx="4571640" cy="459720"/>
            <a:chOff x="1675440" y="7924680"/>
            <a:chExt cx="4571640" cy="459720"/>
          </a:xfrm>
        </p:grpSpPr>
        <p:sp>
          <p:nvSpPr>
            <p:cNvPr id="121" name=""/>
            <p:cNvSpPr/>
            <p:nvPr/>
          </p:nvSpPr>
          <p:spPr>
            <a:xfrm>
              <a:off x="4268160" y="8001000"/>
              <a:ext cx="197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ösungsmenge angeb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5440" y="7924680"/>
              <a:ext cx="149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 = { 2,7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08:45:30Z</dcterms:created>
  <dc:creator>Horst</dc:creator>
  <dc:description/>
  <dc:language>en-US</dc:language>
  <cp:lastModifiedBy>Horst</cp:lastModifiedBy>
  <dcterms:modified xsi:type="dcterms:W3CDTF">2003-01-08T09:03:08Z</dcterms:modified>
  <cp:revision>2</cp:revision>
  <dc:subject/>
  <dc:title>PowerPoint-Präsentation</dc:title>
</cp:coreProperties>
</file>