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DAB-F3C7-4CEA-AF6E-2CFABE9F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7E0-A1B1-48CC-AEA5-C8238C25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E82-D7A8-478E-82EF-FEA68B23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8EA-60D3-458A-87E4-9D1B93D5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4BC-9EEC-49FE-B692-8E0A0556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DEB-F858-4F3C-A29D-F6B97637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6AF-83D6-4EB2-8E8B-7F5A5545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CBA-E46F-45B2-9277-0A6088C6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F26-545B-4A57-9208-7130AB62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AD8-BE08-4D14-ABE6-1B567D22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16E-D1C2-406A-85BC-B271C41A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864-2D6C-462E-ADCF-F6D21AF6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917-007B-4AB4-AB4B-DE8F071AE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63040" y="838080"/>
            <a:ext cx="1770840" cy="703800"/>
            <a:chOff x="2363040" y="838080"/>
            <a:chExt cx="1770840" cy="703800"/>
          </a:xfrm>
        </p:grpSpPr>
        <p:sp>
          <p:nvSpPr>
            <p:cNvPr id="43" name=""/>
            <p:cNvSpPr/>
            <p:nvPr/>
          </p:nvSpPr>
          <p:spPr>
            <a:xfrm>
              <a:off x="2363040" y="838080"/>
              <a:ext cx="45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46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56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1132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762120" y="1523880"/>
            <a:ext cx="51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 x = 0 müssen wir ausschließen also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Definitionsmeng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0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8160" y="2133720"/>
            <a:ext cx="422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x    =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      =  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 = 2 • 2 •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HN  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• 2 • 2 •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39160" y="4191120"/>
            <a:ext cx="3961800" cy="703800"/>
            <a:chOff x="839160" y="4191120"/>
            <a:chExt cx="3961800" cy="703800"/>
          </a:xfrm>
        </p:grpSpPr>
        <p:sp>
          <p:nvSpPr>
            <p:cNvPr id="52" name=""/>
            <p:cNvSpPr/>
            <p:nvPr/>
          </p:nvSpPr>
          <p:spPr>
            <a:xfrm>
              <a:off x="4191120" y="4267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92200" y="439092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8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9160" y="4191120"/>
              <a:ext cx="45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936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252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832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7816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2840" y="5105520"/>
            <a:ext cx="3948480" cy="703800"/>
            <a:chOff x="762840" y="5105520"/>
            <a:chExt cx="3948480" cy="703800"/>
          </a:xfrm>
        </p:grpSpPr>
        <p:sp>
          <p:nvSpPr>
            <p:cNvPr id="60" name=""/>
            <p:cNvSpPr/>
            <p:nvPr/>
          </p:nvSpPr>
          <p:spPr>
            <a:xfrm>
              <a:off x="4191120" y="51814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4840" y="51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840" y="5105520"/>
              <a:ext cx="82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8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936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5840" y="5105520"/>
              <a:ext cx="82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8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83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24800" y="5105520"/>
              <a:ext cx="82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9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8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77880" y="5791320"/>
            <a:ext cx="4033440" cy="535680"/>
            <a:chOff x="677880" y="5791320"/>
            <a:chExt cx="4033440" cy="535680"/>
          </a:xfrm>
        </p:grpSpPr>
        <p:sp>
          <p:nvSpPr>
            <p:cNvPr id="68" name=""/>
            <p:cNvSpPr/>
            <p:nvPr/>
          </p:nvSpPr>
          <p:spPr>
            <a:xfrm>
              <a:off x="4191120" y="5791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44840" y="5867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7880" y="5867280"/>
              <a:ext cx="30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     +    24    =     9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978200" y="6477120"/>
            <a:ext cx="2810160" cy="533160"/>
            <a:chOff x="1978200" y="6477120"/>
            <a:chExt cx="2810160" cy="533160"/>
          </a:xfrm>
        </p:grpSpPr>
        <p:sp>
          <p:nvSpPr>
            <p:cNvPr id="72" name=""/>
            <p:cNvSpPr/>
            <p:nvPr/>
          </p:nvSpPr>
          <p:spPr>
            <a:xfrm>
              <a:off x="4191120" y="6477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800" y="6477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78200" y="647712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6    =     9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438640" y="7010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5280" y="76201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4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676520" y="838080"/>
            <a:ext cx="2874960" cy="703800"/>
            <a:chOff x="1676520" y="838080"/>
            <a:chExt cx="2874960" cy="703800"/>
          </a:xfrm>
        </p:grpSpPr>
        <p:sp>
          <p:nvSpPr>
            <p:cNvPr id="79" name=""/>
            <p:cNvSpPr/>
            <p:nvPr/>
          </p:nvSpPr>
          <p:spPr>
            <a:xfrm>
              <a:off x="1676520" y="838080"/>
              <a:ext cx="7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972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19520" y="83808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838080"/>
              <a:ext cx="7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x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62480" y="1523880"/>
            <a:ext cx="526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 x = -2 müssen wir ausschließen also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Definitionsmeng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 -2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640" y="2133720"/>
            <a:ext cx="670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de-DE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x+4    = 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•    (x+2)   In diesem Fall erkennt man 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x+2      =          x+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Hauptnenner besser, wenn man 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x+8    = 2 • 2 (x+2)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nzelnen Nenner faktorisier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HN      =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• 2 • (x+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4110120"/>
            <a:ext cx="5793840" cy="708480"/>
            <a:chOff x="228600" y="4110120"/>
            <a:chExt cx="5793840" cy="708480"/>
          </a:xfrm>
        </p:grpSpPr>
        <p:sp>
          <p:nvSpPr>
            <p:cNvPr id="88" name=""/>
            <p:cNvSpPr/>
            <p:nvPr/>
          </p:nvSpPr>
          <p:spPr>
            <a:xfrm>
              <a:off x="4952880" y="41432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51800" y="426708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41148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426708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2480" y="4110120"/>
              <a:ext cx="60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5480" y="426708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9000" y="41148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6320" y="5029200"/>
            <a:ext cx="5397120" cy="708480"/>
            <a:chOff x="76320" y="5029200"/>
            <a:chExt cx="5397120" cy="708480"/>
          </a:xfrm>
        </p:grpSpPr>
        <p:sp>
          <p:nvSpPr>
            <p:cNvPr id="96" name=""/>
            <p:cNvSpPr/>
            <p:nvPr/>
          </p:nvSpPr>
          <p:spPr>
            <a:xfrm>
              <a:off x="4952880" y="50576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6960" y="5057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320" y="502920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518652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502920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518148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24080" y="503388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533520" y="548604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85800" y="5181480"/>
            <a:ext cx="6094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362320" y="510516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7400" y="548604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886200" y="510516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657600" y="548604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0280" y="5791320"/>
            <a:ext cx="5293800" cy="575640"/>
            <a:chOff x="350280" y="5791320"/>
            <a:chExt cx="5293800" cy="575640"/>
          </a:xfrm>
        </p:grpSpPr>
        <p:sp>
          <p:nvSpPr>
            <p:cNvPr id="110" name=""/>
            <p:cNvSpPr/>
            <p:nvPr/>
          </p:nvSpPr>
          <p:spPr>
            <a:xfrm>
              <a:off x="4952880" y="5791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6600" y="58672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80" y="5907240"/>
              <a:ext cx="35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x        +       4        =  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436840" y="6477120"/>
            <a:ext cx="3113640" cy="533160"/>
            <a:chOff x="2436840" y="6477120"/>
            <a:chExt cx="3113640" cy="533160"/>
          </a:xfrm>
        </p:grpSpPr>
        <p:sp>
          <p:nvSpPr>
            <p:cNvPr id="114" name=""/>
            <p:cNvSpPr/>
            <p:nvPr/>
          </p:nvSpPr>
          <p:spPr>
            <a:xfrm>
              <a:off x="4952880" y="6477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920" y="6477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6477120"/>
              <a:ext cx="13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x   =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743560" y="7010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9960" y="76597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0,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8:45:30Z</dcterms:created>
  <dc:creator>Horst</dc:creator>
  <dc:description/>
  <dc:language>en-US</dc:language>
  <cp:lastModifiedBy>Horst</cp:lastModifiedBy>
  <dcterms:modified xsi:type="dcterms:W3CDTF">2003-01-08T10:53:56Z</dcterms:modified>
  <cp:revision>4</cp:revision>
  <dc:subject/>
  <dc:title>PowerPoint-Präsentation</dc:title>
</cp:coreProperties>
</file>