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9D04-AA18-4586-BE33-C9E3E988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7D71-9320-4AAB-8D65-98D2E825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D6CD-91B1-4EF3-9067-6BBF9730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5F6-0948-4D24-8A1D-A661E1AFA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26D5-53C2-44D9-9057-BFEA6CA9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B324-BAD3-4B00-8AE5-86B60D92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4DDB-2D5C-4F89-895E-46AE9B8E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9C5F-9765-446C-BE26-50983FB1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788A-E8C6-4D07-B34E-42B16CE7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0AB3-372F-4901-A27F-0AFA51B3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ACDE-C1E1-432B-B481-BAB87268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C7A3-4332-4D0C-B6C5-AB7D7FC1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CD65-BC17-42C1-87FC-039EC411F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47440" y="22860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ösungsbeispiel Bruchgleichung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516040" y="838080"/>
            <a:ext cx="1617840" cy="703800"/>
            <a:chOff x="2516040" y="838080"/>
            <a:chExt cx="1617840" cy="703800"/>
          </a:xfrm>
        </p:grpSpPr>
        <p:sp>
          <p:nvSpPr>
            <p:cNvPr id="43" name=""/>
            <p:cNvSpPr/>
            <p:nvPr/>
          </p:nvSpPr>
          <p:spPr>
            <a:xfrm>
              <a:off x="2516040" y="83808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4640" y="91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49920" y="914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30440" y="91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11320" y="83808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55960" y="8748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5040" y="1600200"/>
            <a:ext cx="674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estimmen der Definitionsmeng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Lösung x = 0 müssen wir ausschließen, also is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= Q \ {0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400" y="2438280"/>
            <a:ext cx="55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. Bestimmung des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auptnenne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 nur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s Nenner vorkommt,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st x auch der Hauptnen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480" y="3654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ösungsschrit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446840" y="7543800"/>
            <a:ext cx="5064840" cy="535320"/>
            <a:chOff x="1446840" y="7543800"/>
            <a:chExt cx="5064840" cy="535320"/>
          </a:xfrm>
        </p:grpSpPr>
        <p:sp>
          <p:nvSpPr>
            <p:cNvPr id="53" name=""/>
            <p:cNvSpPr/>
            <p:nvPr/>
          </p:nvSpPr>
          <p:spPr>
            <a:xfrm>
              <a:off x="1446840" y="7543800"/>
              <a:ext cx="149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 = { 1,5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59400" y="7620120"/>
              <a:ext cx="2852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ösungsmenge angeben und mit 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finitionsmenge vergleich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87240" y="4191120"/>
            <a:ext cx="6171120" cy="703800"/>
            <a:chOff x="687240" y="4191120"/>
            <a:chExt cx="6171120" cy="703800"/>
          </a:xfrm>
        </p:grpSpPr>
        <p:sp>
          <p:nvSpPr>
            <p:cNvPr id="56" name=""/>
            <p:cNvSpPr/>
            <p:nvPr/>
          </p:nvSpPr>
          <p:spPr>
            <a:xfrm>
              <a:off x="3200400" y="4267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201480" y="4343400"/>
              <a:ext cx="52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•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43000" y="4419720"/>
              <a:ext cx="301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ide Seiten mit dem HN multipliz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7240" y="419112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15840" y="4267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21120" y="4267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30240" y="4267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11120" y="419112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27160" y="42274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29680" y="5105520"/>
            <a:ext cx="5474160" cy="740160"/>
            <a:chOff x="229680" y="5105520"/>
            <a:chExt cx="5474160" cy="740160"/>
          </a:xfrm>
        </p:grpSpPr>
        <p:sp>
          <p:nvSpPr>
            <p:cNvPr id="66" name=""/>
            <p:cNvSpPr/>
            <p:nvPr/>
          </p:nvSpPr>
          <p:spPr>
            <a:xfrm>
              <a:off x="3200400" y="51055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54480" y="5181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08440" y="5257800"/>
              <a:ext cx="189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le Bruchterme kürz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9680" y="5105520"/>
              <a:ext cx="67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1 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• 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15840" y="5181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21120" y="518148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•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14400" y="52182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4920" y="5141880"/>
              <a:ext cx="67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4 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• 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27160" y="5141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37760" y="5791320"/>
            <a:ext cx="5206680" cy="575640"/>
            <a:chOff x="437760" y="5791320"/>
            <a:chExt cx="5206680" cy="575640"/>
          </a:xfrm>
        </p:grpSpPr>
        <p:sp>
          <p:nvSpPr>
            <p:cNvPr id="76" name=""/>
            <p:cNvSpPr/>
            <p:nvPr/>
          </p:nvSpPr>
          <p:spPr>
            <a:xfrm>
              <a:off x="3200400" y="57913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7760" y="5907240"/>
              <a:ext cx="20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   +  2x   =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77800" y="58672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11680" y="5943600"/>
              <a:ext cx="183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Äquivalenzumform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524600" y="6477120"/>
            <a:ext cx="4119840" cy="533160"/>
            <a:chOff x="1524600" y="6477120"/>
            <a:chExt cx="4119840" cy="533160"/>
          </a:xfrm>
        </p:grpSpPr>
        <p:sp>
          <p:nvSpPr>
            <p:cNvPr id="81" name=""/>
            <p:cNvSpPr/>
            <p:nvPr/>
          </p:nvSpPr>
          <p:spPr>
            <a:xfrm>
              <a:off x="3200400" y="64771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7440" y="647712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11680" y="6553080"/>
              <a:ext cx="183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Äquivalenzumform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24600" y="6477120"/>
              <a:ext cx="102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x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600560" y="701028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47440" y="22860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ösungsbeispiel Bruchgleichung 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936800" y="838080"/>
            <a:ext cx="2549160" cy="703800"/>
            <a:chOff x="1936800" y="838080"/>
            <a:chExt cx="2549160" cy="703800"/>
          </a:xfrm>
        </p:grpSpPr>
        <p:sp>
          <p:nvSpPr>
            <p:cNvPr id="88" name=""/>
            <p:cNvSpPr/>
            <p:nvPr/>
          </p:nvSpPr>
          <p:spPr>
            <a:xfrm>
              <a:off x="1936800" y="838080"/>
              <a:ext cx="676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-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4640" y="91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9920" y="914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30440" y="91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09880" y="838080"/>
              <a:ext cx="676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-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55960" y="8748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040" y="1600200"/>
            <a:ext cx="674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estimmen der Definitionsmeng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Lösung x = 1 müssen wir ausschließen, also is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= Q \ {1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5480" y="2438280"/>
            <a:ext cx="611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. Bestimmung des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auptnenne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 nur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–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s Nenner vorkommt,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st x -1 auch der Hauptnen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1480" y="3654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ösungsschrit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0000" y="7467480"/>
            <a:ext cx="14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= { 1,5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60280" y="4191120"/>
            <a:ext cx="4771440" cy="703800"/>
            <a:chOff x="260280" y="4191120"/>
            <a:chExt cx="4771440" cy="703800"/>
          </a:xfrm>
        </p:grpSpPr>
        <p:sp>
          <p:nvSpPr>
            <p:cNvPr id="99" name=""/>
            <p:cNvSpPr/>
            <p:nvPr/>
          </p:nvSpPr>
          <p:spPr>
            <a:xfrm>
              <a:off x="4267080" y="41911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67440" y="431496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•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x 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0280" y="4191120"/>
              <a:ext cx="676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-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66680" y="4267080"/>
              <a:ext cx="3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1600" y="4267080"/>
              <a:ext cx="3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86000" y="4267080"/>
              <a:ext cx="3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66880" y="4191120"/>
              <a:ext cx="676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-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79440" y="422748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0" y="5029200"/>
            <a:ext cx="4787640" cy="780120"/>
            <a:chOff x="0" y="5029200"/>
            <a:chExt cx="4787640" cy="780120"/>
          </a:xfrm>
        </p:grpSpPr>
        <p:sp>
          <p:nvSpPr>
            <p:cNvPr id="108" name=""/>
            <p:cNvSpPr/>
            <p:nvPr/>
          </p:nvSpPr>
          <p:spPr>
            <a:xfrm>
              <a:off x="4267080" y="50292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21160" y="5105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5105520"/>
              <a:ext cx="1415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1 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(x –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-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43000" y="5181480"/>
              <a:ext cx="3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71600" y="51814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(x –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86000" y="5181480"/>
              <a:ext cx="3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66880" y="50292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3 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(x –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-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98800" y="5715000"/>
            <a:ext cx="4659120" cy="536040"/>
            <a:chOff x="298800" y="5715000"/>
            <a:chExt cx="4659120" cy="536040"/>
          </a:xfrm>
        </p:grpSpPr>
        <p:sp>
          <p:nvSpPr>
            <p:cNvPr id="116" name=""/>
            <p:cNvSpPr/>
            <p:nvPr/>
          </p:nvSpPr>
          <p:spPr>
            <a:xfrm>
              <a:off x="4267080" y="57150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44480" y="579132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8800" y="5791320"/>
              <a:ext cx="28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      + 4x – 4  =  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981800" y="6400800"/>
            <a:ext cx="2882880" cy="533520"/>
            <a:chOff x="1981800" y="6400800"/>
            <a:chExt cx="2882880" cy="533520"/>
          </a:xfrm>
        </p:grpSpPr>
        <p:sp>
          <p:nvSpPr>
            <p:cNvPr id="120" name=""/>
            <p:cNvSpPr/>
            <p:nvPr/>
          </p:nvSpPr>
          <p:spPr>
            <a:xfrm>
              <a:off x="4267080" y="64008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44120" y="64008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800" y="6400800"/>
              <a:ext cx="102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x =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133720" y="685800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08:45:30Z</dcterms:created>
  <dc:creator>Horst</dc:creator>
  <dc:description/>
  <dc:language>en-US</dc:language>
  <cp:lastModifiedBy>Horst</cp:lastModifiedBy>
  <dcterms:modified xsi:type="dcterms:W3CDTF">2003-01-08T09:38:07Z</dcterms:modified>
  <cp:revision>4</cp:revision>
  <dc:subject/>
  <dc:title>PowerPoint-Präsentation</dc:title>
</cp:coreProperties>
</file>