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D7C-0B15-448F-80C7-2D78D61A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E4FC-5A4B-48B7-8D5A-B39AA355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049-839E-4961-8811-349A7281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573-C837-4032-A329-9AD83466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070-10ED-4B31-9446-BD2ED7D2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9A0-DE9C-4E6C-B4B8-FB5314C6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6AF-3D32-4771-91DD-29B478BB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E51F-A709-4E9F-A977-C6F1CF91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2C9-EAEA-44A2-A092-BCD60C20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D5B-E5FF-40BB-8FAD-CBBC1B77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082-B10E-49D8-AAD9-9831D3A4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B99-E540-4799-B465-715ACC1C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B859-5E39-4DE5-B8D8-FEA88BDE7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800" y="1522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initionsmenge bei Brucht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4600" y="773280"/>
            <a:ext cx="8474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Übel, eine Definitionsmenge festlegen zu müssen, hat seine Wurze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r Division. Die Division durch Null ergibt leider keinen Sinn. In 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ache der Mathematik sagt man auch, die Division durch Null ist n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ert, wie folgende Beispiele zeig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87600" y="2209680"/>
            <a:ext cx="2303280" cy="932400"/>
            <a:chOff x="687600" y="2209680"/>
            <a:chExt cx="2303280" cy="932400"/>
          </a:xfrm>
        </p:grpSpPr>
        <p:sp>
          <p:nvSpPr>
            <p:cNvPr id="44" name=""/>
            <p:cNvSpPr/>
            <p:nvPr/>
          </p:nvSpPr>
          <p:spPr>
            <a:xfrm>
              <a:off x="687600" y="2438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19320" y="25909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143000" y="26668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77600" y="2209680"/>
              <a:ext cx="46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68320" y="228600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77960" y="2743200"/>
              <a:ext cx="4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763920" y="3276720"/>
            <a:ext cx="2331000" cy="932040"/>
            <a:chOff x="763920" y="3276720"/>
            <a:chExt cx="2331000" cy="932040"/>
          </a:xfrm>
        </p:grpSpPr>
        <p:sp>
          <p:nvSpPr>
            <p:cNvPr id="51" name=""/>
            <p:cNvSpPr/>
            <p:nvPr/>
          </p:nvSpPr>
          <p:spPr>
            <a:xfrm>
              <a:off x="763920" y="3505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95280" y="36576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219320" y="37339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53560" y="3276720"/>
              <a:ext cx="46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45000" y="342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3920" y="3809880"/>
              <a:ext cx="4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63920" y="4343400"/>
            <a:ext cx="2303280" cy="932400"/>
            <a:chOff x="763920" y="4343400"/>
            <a:chExt cx="2303280" cy="932400"/>
          </a:xfrm>
        </p:grpSpPr>
        <p:sp>
          <p:nvSpPr>
            <p:cNvPr id="58" name=""/>
            <p:cNvSpPr/>
            <p:nvPr/>
          </p:nvSpPr>
          <p:spPr>
            <a:xfrm>
              <a:off x="763920" y="457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5280" y="47242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219320" y="48006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53560" y="4343400"/>
              <a:ext cx="46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44640" y="441972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53920" y="4876920"/>
              <a:ext cx="4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763920" y="5486400"/>
            <a:ext cx="2331000" cy="932400"/>
            <a:chOff x="763920" y="5486400"/>
            <a:chExt cx="2331000" cy="932400"/>
          </a:xfrm>
        </p:grpSpPr>
        <p:sp>
          <p:nvSpPr>
            <p:cNvPr id="65" name=""/>
            <p:cNvSpPr/>
            <p:nvPr/>
          </p:nvSpPr>
          <p:spPr>
            <a:xfrm>
              <a:off x="763920" y="571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95280" y="58672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219320" y="59436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53560" y="5486400"/>
              <a:ext cx="46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45000" y="563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53920" y="6019920"/>
              <a:ext cx="4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939200" y="2706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28954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6440" y="24382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20280" y="2630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333760" y="2971800"/>
            <a:ext cx="1447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16800" y="2971800"/>
            <a:ext cx="4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638680" y="2438280"/>
            <a:ext cx="68580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2438280"/>
            <a:ext cx="68580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2800" y="3505320"/>
            <a:ext cx="55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urch 0 kann nicht dividiert werde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87200" y="152280"/>
            <a:ext cx="48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menge bei Bruchte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2000" y="838080"/>
            <a:ext cx="833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 Bruchtermen können Variable im Zähler und im Nenner vorkom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e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vision durch die Zahl Null keinen Sinn ergib, muss man d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ahlen aus der Grundmenge ausschließen, die beim Einsetzen in d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ariablen dem Nenner den Wert Null geben 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3520" y="23256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p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800" y="2859120"/>
            <a:ext cx="34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63680" y="2819520"/>
            <a:ext cx="7140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er darf man für x all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ationalen Zah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ußer 0 einsetze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Sprache der Mathematik schreibt m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  <a:ea typeface="Times New Roman"/>
              </a:rPr>
              <a:t>\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{ 0 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411480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Übersetzt bedeutet das: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ie Definitionsmeng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ind a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Rationalen Zahlen 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  <a:ea typeface="Times New Roman"/>
              </a:rPr>
              <a:t>auß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r Menge mit der Zahl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4920" y="838080"/>
                <a:ext cx="895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04920" y="3505320"/>
                <a:ext cx="12952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1670040" y="838080"/>
            <a:ext cx="61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er darf man für x alle Rationalen Zahlen außer – 5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insetzen, denn – 5 + 5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4920" y="2682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p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4200" y="1828800"/>
            <a:ext cx="5344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Sprache der Mathematik schreibt ma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 = Q\ { - 5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0880" y="27828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p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97920" y="3581280"/>
            <a:ext cx="668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er darf man für x alle Rationalen Zahlen außer 0 und 5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nn 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( 0 – 5 ) = 0 u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• ( 5 – 5 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4200" y="4572000"/>
            <a:ext cx="5344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Sprache der Mathematik schreibt ma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 = Q\ { 0 ; 5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8:07:26Z</dcterms:created>
  <dc:creator>Horst</dc:creator>
  <dc:description/>
  <dc:language>en-US</dc:language>
  <cp:lastModifiedBy>Horst</cp:lastModifiedBy>
  <dcterms:modified xsi:type="dcterms:W3CDTF">2003-01-08T12:31:12Z</dcterms:modified>
  <cp:revision>3</cp:revision>
  <dc:subject/>
  <dc:title>PowerPoint-Präsentation</dc:title>
</cp:coreProperties>
</file>